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" y="379836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24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0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24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147240"/>
            <a:ext cx="89726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600" y="379836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360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19240" y="105264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60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360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19240" y="3798360"/>
            <a:ext cx="286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147240"/>
            <a:ext cx="89726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79836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052640"/>
            <a:ext cx="4338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" y="3798360"/>
            <a:ext cx="8890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5902" t="0" r="5553" b="0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Object 3"/>
          <p:cNvGraphicFramePr/>
          <p:nvPr/>
        </p:nvGraphicFramePr>
        <p:xfrm>
          <a:off x="0" y="0"/>
          <a:ext cx="9906120" cy="685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906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507960" y="954000"/>
            <a:ext cx="88902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2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95280" y="64548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D9B7-415A-4413-8E4B-D4F05F24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9061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906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Line 5"/>
          <p:cNvSpPr/>
          <p:nvPr/>
        </p:nvSpPr>
        <p:spPr>
          <a:xfrm flipV="1">
            <a:off x="3632040" y="3343320"/>
            <a:ext cx="5766120" cy="936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just">
              <a:lnSpc>
                <a:spcPct val="205000"/>
              </a:lnSpc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7600" y="1052640"/>
            <a:ext cx="88902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4240" y="3573000"/>
            <a:ext cx="85680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DOMESTIC INVESTOR ROADSH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arch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9"/>
          <p:cNvGraphicFramePr/>
          <p:nvPr/>
        </p:nvGraphicFramePr>
        <p:xfrm>
          <a:off x="312840" y="1176480"/>
          <a:ext cx="171432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176480"/>
                    <a:ext cx="17143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8"/>
          <p:cNvSpPr/>
          <p:nvPr/>
        </p:nvSpPr>
        <p:spPr>
          <a:xfrm>
            <a:off x="0" y="6278400"/>
            <a:ext cx="400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ational Treasu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88880" y="115920"/>
            <a:ext cx="8972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onitoring refinancing ris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5027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571680" y="1219320"/>
          <a:ext cx="876276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19320"/>
                    <a:ext cx="876276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5200" y="1294920"/>
            <a:ext cx="89280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acro economic poli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Funding strategy 2010/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Contingent li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4970-A7BE-4024-8D42-3B0F7E7DC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croeconomic forecas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99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wth projections revised higher to 2.3% in 2010 rising to 3.6% in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covery supported by improved global environment, rising investment spending, government consumption, gradual rise in household spend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867-8147-4FFE-A5A0-D9A063F306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12920" y="2362320"/>
            <a:ext cx="924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990000"/>
                </a:solidFill>
                <a:latin typeface="Arial"/>
              </a:rPr>
              <a:t>Signs of economic recovery in South Africa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052640"/>
            <a:ext cx="472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A range of indicators point to recove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The leading indicator up 15.7% between March and December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4 GDP growth +3.2%q/q, saa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Manufacturing capacity utilisation above 80% in the fourth quar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PMI strong in January and Febru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New car sales up 20.7% y-o-y in February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House prices are ri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9 000 jobs created in the fourth quarter and employment component of the PMI &gt; 50 in Jan and Feb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65800" y="1295280"/>
            <a:ext cx="404496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onents of the Purchasing Managers Inde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448240" y="3962520"/>
            <a:ext cx="388008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ning, manufacturing &amp; electricity outp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346880" y="63817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7030-5122-4A64-AAB4-4B886C2219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5448240" y="4267080"/>
            <a:ext cx="3962520" cy="229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448240" y="1523880"/>
            <a:ext cx="39625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49400"/>
            <a:ext cx="89726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990000"/>
                </a:solidFill>
                <a:latin typeface="Arial"/>
              </a:rPr>
              <a:t>Fiscal sustainability – debt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2560" y="1447920"/>
            <a:ext cx="4498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cyclical fiscal stance enabled government to meet its expenditure commitments during the recess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hortfall between revenue and expenditure has been financed by debt leading to higher debt-service costs over the MT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 indicate that the debt ratio will peak between 43% and 48% of GDP in 2015/16, before gradually declining over the longer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economy recovers government will act to reduce borrowing and pay down deb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65800" y="1295280"/>
            <a:ext cx="4044960" cy="459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ng-term forecast of national government debt, % of GD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65800" y="3962520"/>
            <a:ext cx="404496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debt outcomes, % of GDP, 2015/20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1"/>
          <a:stretch/>
        </p:blipFill>
        <p:spPr>
          <a:xfrm>
            <a:off x="5200560" y="1752480"/>
            <a:ext cx="4127760" cy="218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5118120" y="4280040"/>
            <a:ext cx="45543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990000"/>
                </a:solidFill>
                <a:latin typeface="Arial"/>
              </a:rPr>
              <a:t>Infrastructure investment supports the recover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88329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Capacity expansion in electricity is a major driver of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</a:rPr>
              <a:t>Spending on electricity, gas and water increased by 74% in the first nine months of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by public corporations grows at an average rate of 17% a year over MTEF and private investment recovers gradu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R846 billion will be spent over the MTEF peri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</a:rPr>
              <a:t>Non-financial public enterprises to spend R454 billion (53.7% of total spen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nces and municipalities continue to be significant drivers of infrastructure spending due to capacity expansion in transport, housing, water &amp; sanitation, hospital </a:t>
            </a:r>
            <a:r>
              <a:rPr b="1" lang="en-ZA" sz="1400" spc="-1" strike="noStrike">
                <a:solidFill>
                  <a:srgbClr val="000000"/>
                </a:solidFill>
                <a:latin typeface="Arial"/>
              </a:rPr>
              <a:t>revitali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social infra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A874-C8B8-4BA8-9EC3-06E734FDC0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247680" y="4495680"/>
            <a:ext cx="916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800" y="82440"/>
            <a:ext cx="8972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2010/11 Funding strateg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98440" y="971640"/>
            <a:ext cx="4419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t Treasury bill issues of R22 billion in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1-,182-, 273- and 364- day matu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oss bond issues of R151.3 billion in current benchmark bonds and new fixed income bonds [2030/31 and 2040/41] and inflation-linked bonds [2016/17 and 2021/22]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eign loans of R14.8 billion to finance maturing loans, pay interest and meet other government foreign expenditu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awdown of cash balances of R3.6 bill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onal cash balances of R40 billion and sterilisation deposits of R60 bill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ordinate debt issuance in broader public sector to ensure access to fund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 per cent of SOEs and DFIs borrowing requirement financed from international funding sources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809960" y="1228680"/>
          <a:ext cx="4837320" cy="474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960" y="1228680"/>
                    <a:ext cx="4837320" cy="47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147240"/>
            <a:ext cx="8972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reign market issuance – updat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7960" y="1093680"/>
          <a:ext cx="8734320" cy="5087880"/>
        </p:xfrm>
        <a:graphic>
          <a:graphicData uri="http://schemas.openxmlformats.org/drawingml/2006/table">
            <a:tbl>
              <a:tblPr/>
              <a:tblGrid>
                <a:gridCol w="2524320"/>
                <a:gridCol w="2154240"/>
                <a:gridCol w="1901520"/>
                <a:gridCol w="2154240"/>
              </a:tblGrid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blic of South Afr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: Baa1; S&amp;P: BBB+; Fitch: BBB+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 forma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SEC register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verning la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ourg Stock Exchan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F 20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F 2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>
                        <a:alpha val="50000"/>
                      </a:srgbClr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c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 siz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 1,500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 500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USD 2,000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ing d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-May-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-Aug-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02-Mar-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urity d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arch 2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5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9.30%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ield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5.593%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yr UST spot at  pric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.623%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ad to US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 bp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bp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97bps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pon (payable semi annually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7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lnSpc>
                          <a:spcPct val="205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5.5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149400"/>
            <a:ext cx="89726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990000"/>
                </a:solidFill>
                <a:latin typeface="Arial"/>
              </a:rPr>
              <a:t>Net debt, contingent liabilities and provisions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560" y="1447920"/>
            <a:ext cx="4498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 debt, contingent liabilities and provisions as percentage of GDP estimated  to increase from 33.8 per cent (2008/09) of GDP to 53.6 per cent (2012/1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in the Southern African Development Community’s macroeconomic convergence target of 60 per cent of GD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arantee exposure increases by R63.1 billion to R137.9 billion in 2009/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arantees of R231.4 billion issued in 2009/10. - Eskom (R176 bn), SANRAL (R31.9 bn), DBSA (R15.2 bn), Landbank (R3.5 bn), PRASA (R1.4 bn), DENEL (R1.9 bn) and SABC (R1.5 bn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65800" y="990720"/>
            <a:ext cx="404496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 debt, contingent liabilities and provis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270400" y="3714840"/>
            <a:ext cx="404496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osition of provisions and contingent liabilit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4948200" y="1233360"/>
          <a:ext cx="4964040" cy="24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8200" y="1233360"/>
                    <a:ext cx="496404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9"/>
          <p:cNvGraphicFramePr/>
          <p:nvPr/>
        </p:nvGraphicFramePr>
        <p:xfrm>
          <a:off x="4952880" y="3867120"/>
          <a:ext cx="4902480" cy="298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67120"/>
                    <a:ext cx="490248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2:44:57Z</dcterms:created>
  <dc:creator>JennyV</dc:creator>
  <dc:description/>
  <dc:language>en-US</dc:language>
  <cp:lastModifiedBy>4052</cp:lastModifiedBy>
  <dcterms:modified xsi:type="dcterms:W3CDTF">2010-09-17T06:12:33Z</dcterms:modified>
  <cp:revision>1157</cp:revision>
  <dc:subject/>
  <dc:title>PowerPoint Presentation</dc:title>
</cp:coreProperties>
</file>